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819F-98E4-4FDD-B22E-CCA064857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F233-DFA8-4A2C-9040-317B2F95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1D3E-6854-4EE6-AE95-879D117FA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F6C0-0FA6-4A75-BB68-73105AEE8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44E4-DA53-482C-B7A3-AD795A52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3C37-BD32-4E6A-8C94-2CE79EFB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6C86-A132-40EA-8AE5-DA526BAC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F4E6-0939-46B6-BE96-B9E69A01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AB38-D677-447B-B106-4D6371B1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77E1-E9E7-4871-9E5F-A4CF0006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36DC-6D4E-4C02-9B3C-5663255E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09E7-9DB8-479E-AB4E-51CA9811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A7DC-054C-49BA-AA20-1980DA7C097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4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оиск информации в интернете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нятие 8. Сложные запросы в ПС Яндек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92988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ложные запросы: выручат скобк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 можете строить сколь угодно сложные конструкции, подставляя в каждом из операторов вместо отдельного слова целые выраж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бы Яндекс при этом правильно понимал вас, заключайте выражения в круглые скоб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ложные запрос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бы пореже натыкаться на уменьшение количества результатов, вызванные неверным синтаксисом, используйте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несколько правил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Всегда ставьте перед стоп-словами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«+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Отделяйте операторы поиска в элементах от слов запроса символами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«&amp;&amp;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По возможности, используйте в сложных запросах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«/+1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место кавыче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4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Анализ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сложных запросов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 запроса 1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щий запрос на тему бокса не совсем релевантен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(бокс|боксер|боксерский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чевидно, что по результатам поиска будет найдено довольно много документов в том числе и не относящихся к спорт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лучшим запрос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 запроса 1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сечем анекдоты, собак, чехлы для техники, душевые, больничную тем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про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(бокс|боксер|боксерский) ~~ (анекдот|собака|больничный|медицинский|душевая|чехо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даст более релевантные документы. После нескольких проверок запрос можно улучшить ещ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624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 запроса 2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0880" y="2118960"/>
            <a:ext cx="83059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ример, нужно найти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резюме жителей Москв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о знанием французского языка, имеющих опыт работы с Windows, Linux. При этом уровень знания французского языка имеет первостепенное значени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оим запрос —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$title(резюме) &amp;&amp; +(москва | !495) &amp;&amp; +французский &amp;&amp; +linux &amp;&amp; +window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 запроса 2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440" y="214776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$title(резюме) &amp;&amp; +(москва | !495) &amp;&amp; +французский &amp;&amp; +linux &amp;&amp; +wind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«В заголовке должно быть слово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«резюме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а в пределах одного документа – слова: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«москва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или код города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495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«французский», «linux», «windows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точной словоформ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облема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560" y="20574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С так выбирает слова для аннотации результатов поиска, что слово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«французский» попадает в них редк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— придется открывать все страниц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ли слово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«французский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грает второстепенное значение, так что смысл документов не соответствует запрос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формулируем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 запроса 2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0880" y="21477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жно воспользоваться оператором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&lt;&lt;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+французский &lt;&lt; ($title(резюме) &amp;&amp; +(москва | !495) &amp;&amp; +linux &amp;&amp; +window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перь слово «французский» будет иметь первостепенное значение для ранжирования, но при этом остальные слова тоже играют роль в результатах поис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1920" y="9298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 запроса 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0520" y="214776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вы ищете описание мумие, но не хотите наталкиваться на прайсы интернет-магазинов, можете задать такой запрос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мумие 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&lt;&lt;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 (лечение|лечебный|болезни) ~~ (цена|прайс|рубль|доллар|фирма|магазин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удут найдены все страницы, где есть слово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мум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а также любое из слов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лечение, лечебны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болезн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и нет ни одного из слов, перечисленных после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оператора ~~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Неранжирующее «И»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Оператор неранжирующее «И» 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&lt;&lt;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чень похож на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оператор определения слов в одном документе &amp;&amp;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с той лишь разницей, что слово, которое находится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справ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лияет на возможность документов попасть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в результаты поиск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но не влияет на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ранжирова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актическое задани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80880" y="214776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Создайте запрос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для поиска резюме жителя Перми, обладающего опытом верстки и предпечатной подготовки, владеющего программами графического пакет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ob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Создайте запрос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для поиска вакансии в пермских СМИ, службах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рекламных агентствах для работы по гибкому графи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 запроса 4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«Запрос пресс-службы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у журналистов и работников служб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ествует необходимость создавать запросы для отслеживания публикаций и документов в интернете, связанных с определенной компанией и ее руководител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чевидно, что в запросе должны присутствовать все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варианты названия компан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имя руководител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 запроса 4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формулируем запрос для ПГ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(пгу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|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пермгу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|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(пермский /+1 (государственный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|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классический) /+1 университет)) 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&amp;&amp; (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маланин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|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(владимир /1 маланин)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 видно, запрос учитывает четыре варианта названия вуза и два варианта упоминания имени ректо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 запроса 4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ествует один нюанс: в результатах поиска присутствуют документы с официального сайта университет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ww.psu.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бы отсечь эти документы, добавим в конце запрос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~~  url=«www.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psu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.ru*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актическое задани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14776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йте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«запрос пресс-службы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для известной Вам компан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ывайте русской и английское написание названия, аббревиатуры, сокращенное и полное имя руководител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оме этого, можно ограничить запрос темой документа, упоминанием региона и т.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4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Практическое задание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«Переведи запрос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«Переведи запрос»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5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начала перед Вами появится запрос, описанный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«естественным» языко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Ваша задача –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«перевести» описа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а язык запрос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этого Вы увидите, наоборот,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формализованный запрос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Ваша задача – сделать обратный перевод на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«естественный» язык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Запрос 1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обходимо найти документы со словами «новый» или «анонсировал», или «представил», или «появился» и словами «гаджет» или «устройство», или «девайс», или «аппарат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Запрос 2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тхэквандо|тэквадно|таэквандо|тхек-ванд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Запрос 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обходимо найти документы со словами «биография» или «жизнь» в заголовке, чтобы в тексте были слова «розинг» или «зворыкин» в точной словоформе; слова «изобретение», «телевидение», «электронно-лучевая трубка» в любой словоформ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Неранжирующее «И» (пример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ример, запро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Трутнев 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&amp;&amp;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биограф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йдет документы, где указанные слова будут расположены в пределах одного документа. При этом одно из первых мест в результатах займет, например, документ, в котором будет словосочетание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«биография Трутнев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Запрос 4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((фехтование|фехтовальщик|фехто-вать) &amp;&amp; сабля) | сабли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Запрос 5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обходимо найти документы со словами «прежнее» и «название» друг за другом или «называлась», или «переименовали»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овами «советский» и «спорт» друг за другом –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в одном предложен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Запрос 6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(спортивная /1 гимнастика | (гимнаст|гимнастка|гимнастика)) &amp;&amp; (конь|кольца|брусья|опорный /1 прыжок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Источники информаци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зык запросов. Как искать? Помощь Яндекса. http://www.yandex.ru/search/?id=48193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Неранжирующее «И» (пример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на запро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Трутне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&lt;&lt;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биограф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удут найдены документы, где будут присутствовать оба слова, но слово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«биография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е будет влиять на ранжирование и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первые мест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списке результатов поиска займут документы со словом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«Трутнев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74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оиск текста в заголовке страниц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иск текста в заголовке страниц (title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$title (запрос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запрос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Максвелл &lt;&lt; $title (биография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удут найдены документы со словом «биография» в заголовке и словом «Максвелл» в текст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чем слово «Максвелл» будет определяющи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оиск текста на сайт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иск ограничивается группой страниц, с заданным адрес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url=«www.url.ru/cat/*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«кот Бублик» &lt;&lt; url=«www.exler.ru*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удет найдены все упоминания о коте Бублике на сайте www.exler.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оиск файлов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21477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воляет ограничить поиск определенным типом файла: HTML, PDF, DOC, PPT, XLS, RTF, SW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mime=«тип_файл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запрос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(инструкция &amp;&amp; микроволновая печь) &lt;&lt; (mime=«pdf» | mime=«rtf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удет найдены документы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DF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RTF, в теле которых присутствуют слова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«инструкция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«микроволновая печь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пределение языка текст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жно отобрать для поиска документы, написанные на определенном язык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усском (</a:t>
            </a:r>
            <a:r>
              <a:rPr b="0" lang="ru-RU" sz="2000" spc="-1" strike="noStrike">
                <a:solidFill>
                  <a:srgbClr val="0000cc"/>
                </a:solidFill>
                <a:latin typeface="Calibri"/>
              </a:rPr>
              <a:t>ru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краинском (</a:t>
            </a:r>
            <a:r>
              <a:rPr b="0" lang="ru-RU" sz="2000" spc="-1" strike="noStrike">
                <a:solidFill>
                  <a:srgbClr val="0000cc"/>
                </a:solidFill>
                <a:latin typeface="Calibri"/>
              </a:rPr>
              <a:t>uk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елорусском (</a:t>
            </a:r>
            <a:r>
              <a:rPr b="0" lang="ru-RU" sz="2000" spc="-1" strike="noStrike">
                <a:solidFill>
                  <a:srgbClr val="0000cc"/>
                </a:solidFill>
                <a:latin typeface="Calibri"/>
              </a:rPr>
              <a:t>be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глийском (</a:t>
            </a:r>
            <a:r>
              <a:rPr b="0" lang="ru-RU" sz="2000" spc="-1" strike="noStrike">
                <a:solidFill>
                  <a:srgbClr val="0000cc"/>
                </a:solidFill>
                <a:latin typeface="Calibri"/>
              </a:rPr>
              <a:t>e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ранцузском (</a:t>
            </a:r>
            <a:r>
              <a:rPr b="0" lang="ru-RU" sz="2000" spc="-1" strike="noStrike">
                <a:solidFill>
                  <a:srgbClr val="0000cc"/>
                </a:solidFill>
                <a:latin typeface="Calibri"/>
              </a:rPr>
              <a:t>fr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мецком (</a:t>
            </a:r>
            <a:r>
              <a:rPr b="0" lang="ru-RU" sz="2000" spc="-1" strike="noStrike">
                <a:solidFill>
                  <a:srgbClr val="0000cc"/>
                </a:solidFill>
                <a:latin typeface="Calibri"/>
              </a:rPr>
              <a:t>de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lang=«язык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р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DAAD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 &lt;&lt; lang=«de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оиск по дат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иск производится только по страницам, дата которых удовлетворяет заданному услов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date=«ГГГГ{*|ММ{*|ДД}}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р: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date=«200310*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запросу будет производится поиск документов, датированных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октябрем 2003 год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8T17:02:52Z</dcterms:created>
  <dc:creator/>
  <dc:description/>
  <dc:language>en-US</dc:language>
  <cp:lastModifiedBy/>
  <dcterms:modified xsi:type="dcterms:W3CDTF">2016-02-18T17:04:13Z</dcterms:modified>
  <cp:revision>1</cp:revision>
  <dc:subject/>
  <dc:title/>
</cp:coreProperties>
</file>